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gif" ContentType="image/gif"/>
  <Override PartName="/ppt/media/image4.gif" ContentType="image/gif"/>
  <Override PartName="/ppt/media/image5.gif" ContentType="image/gif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1D27-67FF-4F69-9C07-66046B097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2CB1-2CDD-4A6E-A83C-CB09B8CAA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7250-406D-4844-9BE9-3225A9339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90BF-A77F-46E5-B158-41C77D541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AB0D2-A268-48AF-8E85-57102D290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080C7-6EC8-4D7D-8FE0-9B0DDFBF9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E757C-2AA5-45BB-AAA5-FBAE51996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D8B4B-549E-4F27-8B1C-430C1B5B9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83F88-78BF-43BE-948C-26B4F9489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7FCB5-4B92-41AF-BC04-A48D39461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64DED-09C9-4060-AD77-CFA6827A0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B1D7-2B0D-4CA3-85CA-BCE8262F1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E1F36-F969-44AD-82DC-6D1433C42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1E95B-F544-46B2-A4E2-340B3B823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75EBD-E8FF-4BFD-870C-C360FC552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2CB7E-20E4-418C-A91A-4FF369768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7195F-7D7F-4BE0-B2F8-A60C7D312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275E-AFE3-4DD8-A386-FADEB5935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F573-D93C-47F9-A94C-CEC1BA8DB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84B6-BDC0-4B1B-802E-567BD46D3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E5DF-238A-484A-B516-DF0EBCA95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3D8B-AF07-4BBA-9D9A-B4559BB92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053C-717B-4559-BD5D-6B92D48B3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7094-5150-4D5E-BB05-1E35F6CB7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051AE-641B-4D2F-83EB-94387CFA278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24156-C45D-4578-B13A-693C5CBC041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5400" spc="-1" strike="noStrike">
                <a:solidFill>
                  <a:srgbClr val="000000"/>
                </a:solidFill>
                <a:latin typeface="Arial"/>
              </a:rPr>
              <a:t>My Personal Learning Profil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Mali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" sz="3600" spc="-1" strike="noStrike">
                <a:solidFill>
                  <a:srgbClr val="8c0039"/>
                </a:solidFill>
                <a:latin typeface="Arial"/>
              </a:rPr>
              <a:t>My learning style is</a:t>
            </a:r>
            <a:r>
              <a:rPr b="0" lang="en" sz="3600" spc="-1" strike="noStrike">
                <a:solidFill>
                  <a:srgbClr val="8c003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ctile/Kinestheti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t means that I am resourcefu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6781680" y="457200"/>
            <a:ext cx="676440" cy="6001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7086600" y="5105520"/>
            <a:ext cx="685800" cy="102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" sz="3600" spc="-1" strike="noStrike">
                <a:solidFill>
                  <a:srgbClr val="8c0039"/>
                </a:solidFill>
                <a:latin typeface="Arial"/>
              </a:rPr>
              <a:t>My learning technique is</a:t>
            </a:r>
            <a:r>
              <a:rPr b="0" lang="en" sz="3600" spc="-1" strike="noStrike">
                <a:solidFill>
                  <a:srgbClr val="8c003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ve/Learned F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means that I have a great way of lear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7848720" y="1752480"/>
            <a:ext cx="895320" cy="12099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6553080" y="41911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627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1271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I need to learn becaus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will make me sm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will have a lot of intelligence for the fu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learning is a path to greatn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When I learn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things come to me like new ideas for lear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ngs like new consep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9T14:12:26Z</dcterms:created>
  <dc:creator>Isaiah Hitchcock</dc:creator>
  <dc:description/>
  <dc:language>en-US</dc:language>
  <cp:lastModifiedBy>Isaiah Hitchcock</cp:lastModifiedBy>
  <dcterms:modified xsi:type="dcterms:W3CDTF">2010-11-23T16:16:56Z</dcterms:modified>
  <cp:revision>5</cp:revision>
  <dc:subject/>
  <dc:title>My Personal Learning Profile</dc:title>
</cp:coreProperties>
</file>